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E68-1833-4D25-BC7A-5953A874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79F-A687-482D-B553-3AA29BE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3F8-F891-49E4-9A85-F5D6A88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7A1-6B99-45DE-8E1D-3BB2149E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58A-08F0-43F7-B7CB-D9B0DA1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2528-01F3-459E-9828-DDACC0A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ECB1-D583-4DCD-8F53-12A8A3C9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7D58-94A2-4F96-9BCB-EE1C8F0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89F0-C748-45C7-AABB-CBD1CEE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62C0-EFBE-4A98-9D26-537A4AF0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F8F-A523-4E68-BDF6-BA0C453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34D-9020-46E3-AFBD-BB0A9EA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0AD-CD60-4D29-8F57-242E0B6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DEF4-9BFA-47D9-95CE-00E9A6C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5C89-B9BD-4216-86DD-8E77295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7C0-377A-4A2E-AF92-2A663174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460-24D3-4751-9D64-A997C415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C1C-6624-400C-BEAD-7D911EC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7F1-6279-4678-9363-EF6D0DE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42A-7CFD-44E7-8219-DD8774A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5EB-ED1E-4412-94DD-FC24FEAC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71D-1EFD-4898-B07F-7063D5A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9F3-95C3-4D47-AE15-CCEE12B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C0C-B2ED-49EC-B045-AE4946E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92A-D579-498A-BCBA-76163EA866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5280" y="5004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2160" y="262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2000" y="1403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78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5800" y="19260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2B5-540B-4BBA-98C0-2802543D28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rdean2@ilstu.edu" TargetMode="External"/><Relationship Id="rId2" Type="http://schemas.openxmlformats.org/officeDocument/2006/relationships/hyperlink" Target="http://ci306-4.wikispac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&amp;I 306, Section 04 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5320"/>
            <a:ext cx="6032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nuary 14, 20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make a name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o you believe in? Why do you want to teach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ther words…. What is your why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 a minute &amp; write your one sentence why on your name car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prezi.com/ln4lsuf6cex6/what-is-literacy/?auth_key=8950d5f73c53ea9607c2f8d076811f9987aac9a3&amp;kw=view-ln4lsuf6cex6&amp;rc=ref-112956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Wiki and Tech Tools we’ll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Content Placeholder 5" descr="6_28 iphone import 030.JPG"/>
          <p:cNvPicPr/>
          <p:nvPr/>
        </p:nvPicPr>
        <p:blipFill>
          <a:blip r:embed="rId1"/>
          <a:stretch/>
        </p:blipFill>
        <p:spPr>
          <a:xfrm>
            <a:off x="1143000" y="1685880"/>
            <a:ext cx="3483000" cy="46450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6" descr="sync 7_5_11 006.JPG"/>
          <p:cNvPicPr/>
          <p:nvPr/>
        </p:nvPicPr>
        <p:blipFill>
          <a:blip r:embed="rId2"/>
          <a:stretch/>
        </p:blipFill>
        <p:spPr>
          <a:xfrm>
            <a:off x="4800600" y="1676520"/>
            <a:ext cx="3483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 small groups (3-4 peo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out the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things you have in common (not things like we all have 2 arms, we all have on cloth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ready to share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ease use ilstu email to contact me at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dean2@ilstu.edu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Department policy) I can only use your university email address to correspond with yo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gnments and resources will be placed on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course wiki :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i306-4.wikispaces.com/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kendallhunt.com/store-product.aspx?id=626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ebcom8.grtxle.com/index.cfm?cu=literacyl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labus Review/Course Wik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llabus is posted on the cours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ew Course Calen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Next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get your Text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course 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dropbox folder and share with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Chapter 1, The Right to Liter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troubleshoo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44:25Z</dcterms:created>
  <dc:creator>VeselakC</dc:creator>
  <dc:description/>
  <dc:language>en-US</dc:language>
  <cp:lastModifiedBy>netsetup</cp:lastModifiedBy>
  <dcterms:modified xsi:type="dcterms:W3CDTF">2013-01-16T16:14:38Z</dcterms:modified>
  <cp:revision>71</cp:revision>
  <dc:subject/>
  <dc:title>C&amp;I 209, Section 01 Welcome!</dc:title>
</cp:coreProperties>
</file>